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29C-D898-4C3D-88BE-2B933C6F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603-C1A2-40BB-BB87-E80037D0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AF1-15B9-4A63-A04D-82C75182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58C-69E2-4B88-BDEF-C0E03015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88F4-6AE7-4D9D-8A1B-DA1CB910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42CC-462E-4660-A4F1-DF8BD901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FCB4-763C-45D6-8C6A-14276F7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622-3A49-4C2B-B33B-BD09ED6E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C208-DDFC-4D19-B888-B739C06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0457-4C88-4E67-8DD7-9FED67E7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958-C714-4BFE-86FA-9820ED2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489-D256-4108-8AA3-26032F6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0803-FCF9-455D-AC06-5DE088A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6AE-0AD2-4C93-85F5-3881E721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90D-9F2E-4D8D-834B-128315FF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376D-2DE0-49A2-AF89-7C90E57A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7C3C-02A3-46ED-9DD8-D1CB01A6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DC5-8715-4165-8773-9CFCA383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699-48D3-42F6-8303-7F110559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3F7-779F-46D2-BDA3-6D3F1E4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003-CF8A-47C7-89D3-C8ACA33F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69F-6EB5-4912-AEC1-3444537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444-4DB6-4F96-98CC-338AFC30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719-3E9D-463A-AD25-0AC21BF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C91-6A1F-4DAE-9DE8-D609C89D02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0F8-2498-4E3A-A456-D56E75A9B3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Curriculum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multitude of 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662940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50840"/>
            <a:ext cx="76197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7620120" y="-5715000"/>
            <a:ext cx="4891320" cy="366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0700000">
            <a:off x="-7620120" y="-5715000"/>
            <a:ext cx="5740560" cy="4305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5100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15880" y="1981080"/>
            <a:ext cx="71265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learned from school that may or may not be intentio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learned from planned activities of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planned from interactions from fellow stud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pupil’s own curriculum used to cope with the school’s bureaucratic organization and includes social relationships within the schoo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kinds of learnings children derive from the very nature and organizational design of the public school, as well as from the behaviors and attitudes of teachers and administrator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Examples of the hidden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essages and lessons derived from the mere organization of schoo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ay include both positive or negative messages, depending on the perspective of the learner or the obser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Examples of the hidden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cial structure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ine policy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corporal punis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of fairness and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hoo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is not taught, thus giving students the message that these elements are not important in their educational experiences or in our socie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Since it is physically impossible to teach everything in schools, many topics and subject areas must be excluded from the written curriculum  - what gets taught is what is tes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extbook definition of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rmal or informal content and process by which students gain knowledge and understanding, develop skills, and alter attitudes, appreciations, and values under the auspices of that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isner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“schools have consequence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ot only by virtue of what they do not teach, but also by virtue of what they neglect to teach.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What students cannot consider, what they don't processes they are unable to use, have consequences for the kinds of lives they le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isner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“what schools do not teach may be as important as what they do teach -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gnorance is not simply a neutral void; it has important effects on the kinds of options one is able to consider, the alternatives that one can examine, and the perspectives from which one can view a situation or problem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Phantom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Phantom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essages prevalent in and through exposure to medi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10080" y="2500200"/>
            <a:ext cx="26780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offered by policymakers , school officials, administrators, or politicia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ose professionals involved in concept formation and content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ose educational initiatives resulting from decisions based on national and state reports, public speeches, or from texts critiquing outdated educational practice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e publicized works offering updates in pedagogical knowled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Curriculum-in-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26049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Curriculum-in-use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urriculum-in-use is the actual curriculum that is delivered and presented by each teach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extbook defini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one learns (conten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ow one learns (proces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 in the forms of knowledge, understanding, skills, attitudes, appreciations, and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eceived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86200" y="2162160"/>
            <a:ext cx="15717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eceived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ose things that students actually take out of classroom; those concepts and content that are truly learned and remember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xtra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734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xtra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ed activities outside the school 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volun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student inter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t hidden but an open dimension of the school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ope and Sequ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ope and Sequ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iction of the curriculum as a matrix of objectives assigned to successive grade levels (seque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grouped by themes (scop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– scope and sequence – sixth grade language arts  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Scope and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Clear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iculum is not just a list of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clu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rpos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iti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tions of the educational program actually created in schools by teachers, students, and administra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erent Types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051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curriculum is formal or even planned.  The curriculum may be defined in many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overt, explicit or written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305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Overt, explicit or written curriculu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Written understandings and directions formally designated and reviewed by administrators, curriculum directors and teachers, often collectiv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Overt, explicit or written curriculu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is written as part of formal instruction of the schooling experie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fers to a curriculum document, texts, films, and supportive teaching materials that are overtly chosen to support the intentional instructional agenda of a schoo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written curriculum of Clarksville Montgomery Schoo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9:35:18Z</dcterms:created>
  <dc:creator>User</dc:creator>
  <dc:description/>
  <dc:language>en-US</dc:language>
  <cp:lastModifiedBy>Carlette Hardin</cp:lastModifiedBy>
  <dcterms:modified xsi:type="dcterms:W3CDTF">2005-09-04T01:58:57Z</dcterms:modified>
  <cp:revision>9</cp:revision>
  <dc:subject/>
  <dc:title>Curriculum</dc:title>
</cp:coreProperties>
</file>